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8E0-06BD-42B6-A92C-B5768D14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7F2-95F6-460C-9301-0A73A783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0C3-1C15-448D-89F5-9B1A0FD4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BB5-C908-48B9-B8C3-A87CE52C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9CE-9DC1-41A7-A3C8-C497B0F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47C-56D4-45D6-A963-3D0FB693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CC6-7094-4A3B-AC23-DB192A2A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881-6FC8-4836-A602-120265B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87A-FBF9-41EA-97C6-ED4309AA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534-EFCC-44D3-BFB6-0D8C8BC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8AB-2368-464D-9BDB-10B98445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7B3-813B-49BC-969B-B0D375F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31A6-E441-4738-A400-2629D1418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hildDischarge9.jpg"/>
          <p:cNvPicPr/>
          <p:nvPr/>
        </p:nvPicPr>
        <p:blipFill>
          <a:blip r:embed="rId2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Discharge10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Discharge11.jpg"/>
          <p:cNvPicPr/>
          <p:nvPr/>
        </p:nvPicPr>
        <p:blipFill>
          <a:blip r:embed="rId1"/>
          <a:stretch/>
        </p:blipFill>
        <p:spPr>
          <a:xfrm>
            <a:off x="776160" y="847800"/>
            <a:ext cx="7591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Discharge12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ild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Discharge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Discharge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Discharge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Discharge4.jpg"/>
          <p:cNvPicPr/>
          <p:nvPr/>
        </p:nvPicPr>
        <p:blipFill>
          <a:blip r:embed="rId1"/>
          <a:stretch/>
        </p:blipFill>
        <p:spPr>
          <a:xfrm>
            <a:off x="776160" y="828720"/>
            <a:ext cx="75916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Discharge5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Discharge6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Discharge7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Discharge8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7:33Z</dcterms:created>
  <dc:creator>zcui</dc:creator>
  <dc:description/>
  <dc:language>en-US</dc:language>
  <cp:lastModifiedBy>rbalne</cp:lastModifiedBy>
  <dcterms:modified xsi:type="dcterms:W3CDTF">2009-08-12T13:57:22Z</dcterms:modified>
  <cp:revision>2</cp:revision>
  <dc:subject/>
  <dc:title>TRAC</dc:title>
</cp:coreProperties>
</file>